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05B1-2D5B-4AA5-AA4F-1D5F64AD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8509-4901-44A9-9134-44DDDBFB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246A4-08AA-4338-A599-CA385D6D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3E29E-3017-4C94-A2BB-D1728791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24781-05F6-41E4-ACA6-C7FBC933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6623A-19F7-4C4E-8EBA-73B0225C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C65D5-475D-481A-B6A2-902CF557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8CB25-36C6-4882-B39F-27C65B36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1884C-9D87-494B-B4C3-FC8FD643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DA877-A304-4C94-ADDE-3337315D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8EE9C-481D-4476-A0FD-DDDC3704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24E3F-4BEA-47A7-B3F7-61AC8AB9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35D-5068-413D-B51E-3C53613C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6A1C5-322E-48B0-BBD2-78E5F826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634F6-6488-46A8-8315-4B417D84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641CD-6F31-4F23-8600-43692BC1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73FBF-F841-42FD-9210-0B26242C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FC0E6-D436-45C0-8BB1-01611CDB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F453E-D15F-4BEF-BB5C-87A74F44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D1D8C-4719-4F4F-BB5B-F26D91A9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33C0B-3F78-4ACE-864F-8A6179C0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2D339-D5E1-4D17-A929-F4B04102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C8095-70AB-4DAF-AEEC-CC343BDE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2BB-41DB-436D-BC22-15B0F4FF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51A73-FFC1-4912-8B23-DC7662FF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3C34B-3989-4165-A93E-9886353A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B96CD-744F-4E72-B601-39FFB19C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0A8DB-A3C1-417D-AF4E-C70DC94F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FDAAC-97FA-4575-AFE8-23C1B645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C784B-6CFA-4338-BEA6-D42B2940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106D2-B0F1-42C2-8BFD-7F29DD5A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DEF84-2561-4B14-949A-88B2B704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21418-1C23-4222-8A48-1D754327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D1BDD-E501-4982-BDBA-FF071259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97B3-E045-48FE-8A16-AEBA0A72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0C7DC-C32A-4B90-9145-53887538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12A86-103C-4997-8717-D99EADEB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AB31F-F50F-4819-B2B3-19A0166F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93C44-A3DC-4C7E-B27F-D1597A85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0677D-7710-4FDA-AD9B-28380F4C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C01FA-C9CA-47FC-91C5-8DE469A3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56F4F-C4C4-4CAB-9C14-B65E9404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5602C-CBDD-404D-A16A-29A8CE3D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86A29-ED45-4929-BF1A-2DE33D33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2A0EE-89C0-408B-9799-AAD21B0E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0667-B7B0-4F4A-9F85-0F1F448F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A294F-7DD2-4CBC-811E-E1940CA3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42EC4-DC70-41FD-9221-3CC33DCC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89037-DC4B-4AA3-8DDD-A1C5A729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3472E-0747-4895-9552-C4750F32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FC4C1-C2F4-4960-B64E-751B6B39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86C57-849D-4F2C-B83E-4DB7D1F3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F1F19E-A3D8-4AAB-A997-636DA067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B40EE-E4AA-4C5C-A66F-0CE5A565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AEA4B-65AA-4FE4-9597-56FD867F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3C169-7FC3-4E2C-A4BB-AE580BEB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0002-09B8-4DAD-A737-BECE4C7F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BDDE7B-6CF3-45F0-BC91-3429CF85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83A6C-E311-4842-A0F2-36A179E2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7E66F-B77A-4F8D-8986-26EDD87D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11B98-DB86-43EA-B685-C9393646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22F5D6-C1CF-46E7-8A17-8AA1D83D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D7992-23A2-4661-8E17-1C109A05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83607-C83C-4B64-80AA-502CCF34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471C4-F4EF-4245-BDA2-3D0C9029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68F00B-37A2-4B50-BC1C-91D4A24E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32A3A0-DB27-4290-BFB2-ABB1EF64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0C5D-83C9-4E4B-BA5C-11ADF3DC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B76D0E-6692-4DED-80FD-1620EC0B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26139-BF98-4527-89BC-B924890D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83884-8C61-4553-A46D-E242B81A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C72F0-8E12-453C-8116-5AD07936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E26EA-F2A1-449F-A473-1F5FD3B3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77921-D1E7-4509-904B-4F8625B8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E2BEC-9063-49A5-9D59-22796726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2C3BC-2122-4A84-8B12-FE7393F0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7F4CD-C82A-4D33-83E4-4AC848D5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41A7A2-42C6-4CF4-9032-43D04A34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D10B-9596-476D-9F2B-F109C64C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519F01-E0C6-4C8C-9278-61C473ED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FE0D2B-AF67-4398-A409-77EB37A0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7780A5-0EBF-46B8-8346-8029997B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9244EA-FD1D-43E0-B22C-51A31D91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486A23-4397-4C0C-9A8D-A5252749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477012-7FF0-4B42-95D8-4D0DC59B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F1BE0C-A06F-4326-AC22-C76C31BC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BD5067-1E77-4029-9D1B-A54EFA49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FE775B-14B6-4C31-BC4B-46D526E3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6AB4A6-E2F7-4503-A381-2E76C0BD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5057-476A-4292-BF7C-1A40983C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9C1AA8-03EC-42A8-B2D5-4E3ED00D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666408-6066-4BA8-AE5A-B72A18A5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0BBC3D-28F5-4484-A2B4-6ACDB5FF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7AD3DF-A52A-4F6E-8F6E-55527A17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37D34C-572A-424D-9792-5C990241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2CFBF4-FDD9-47C4-9B60-F4C060B7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3330B9-03AF-47A6-B0F8-33794716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544AC-49B8-4CE7-A3D9-2A55F2A1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5273F4-95BF-47A5-ADE1-2A556F86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B1AA77-3FC2-41D0-AA74-865D6CCC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31D4-A45F-4D68-A40E-1220F070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8B885-ADAE-4344-BED1-A5160F06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F178B7-326A-49FA-827A-47CF1F8F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652966-19CA-42E2-BA23-B5FE57AC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B2D9F1-C589-4F3B-B4DB-E160168A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76BF3E-0407-4445-A28D-12A6E6F2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5D6C03-43AB-44E1-97C4-9690954D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89AA3E-679F-422C-8DC0-C6622C23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513988-A2DA-4B37-A4CB-84BEB084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6E416E-E37F-4A61-A647-C4D582DB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94BFE-8F7B-476E-A61F-2AAF3E01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E70-3120-409E-BD96-D8F37548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5F94-7272-4FE1-98EE-C616C90D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5F09A8-E8E2-405C-A7A4-7F306AD9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71356A-5232-4C20-A76C-F0E902AA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AF0BE-499C-4933-A618-E519F683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6D33A7-B30F-4FBF-9034-448181E1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111BFC-7C78-4764-8FAC-945F9130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6EAD4B-7DDB-4F62-AE87-AD8AACA4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3D5093-7469-43BA-8DD1-1E54C1D1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050769-1004-41E2-99FC-A9A5936F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E7949E-9CBF-4CA2-99AB-2632B44F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66BB08-44E8-41C8-9CD4-68DF9AF9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B9F0-77A1-4392-9FEE-1272D196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A1A01-44FB-48E9-96A4-77E093D4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5FAC89-9EC0-4F11-9406-517CBCB7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0E6B04-6BCA-4093-81D5-02D28A1B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3F9072-591C-4BB1-9D9B-48A89532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E4924A-C18B-4CB2-AA06-9B606479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B28B4-4749-400B-A805-704F6E04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F8F4BB-7938-43F0-AB2E-B26E50F9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71BA05-AFAC-434B-8413-656B4472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931195-E13D-4AAA-AC7D-07D5D3F0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F6E96C-529E-434C-88B9-60B54680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C897-8FD0-4472-A614-BB248612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1FACBE-1425-45E8-9A17-371648A1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8E7F1C-9E1A-44CA-A04C-C9244AE3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4736FA-1ADC-4D36-8695-7F0C1A60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614A8A-35C6-4E4E-8A8C-0BF13C7D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04BAA8-49DD-49FD-8C15-0C695255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85DB33-FC68-4B4F-97D7-23A20B56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E51160-0B47-47C7-8D94-D1C48B9B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1E4AE4-2343-4EB5-B31B-C9377401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5D6C83-03C3-40E3-8573-44FA57CA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90C323-6DA2-44A8-967D-1AC5DB22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E222-0098-443F-80A0-95328A25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1AA398-C800-4038-A143-3FB96D8E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9173F2-9D6A-44D8-A6A9-2CF07FAD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55BFB2-1490-40BC-B2B7-FB4D2467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280D02-2ECF-4DCA-84D1-DDFC723C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5D3D42-975C-4B40-B14C-7C145AFA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39C748-9148-4E8B-89F1-21B2A9AB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65ED46-1B0C-46BC-B84F-EBA5251F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BDE933-6142-447E-8DB3-837C4185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C5CA0A-18D4-42AA-8BFD-985E5E98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1DA202-9567-4E1A-9850-D9C97F85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3B27-629E-4549-8800-B0361310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D59BAE-6318-4BF7-91AD-AFFFF179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7305E5-20D7-4D31-8228-AC5DB4C9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6C3C96-0FD6-49A6-A8FD-5A94C9E3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E14A9C-3527-4337-AA99-2B179FC7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1B0E02-68A4-4EDD-84BA-8994E0EE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A492FE-F9FB-4E91-92FE-8043CB16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26E0CF-1A61-4C90-BD7A-1B2CA2F1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A1991B-9B37-4727-B600-44B4FC99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DF4705-F0A7-4557-9860-5F0940D3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9DF25C-C15E-4F83-90DD-573E2E7A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B357-0ABE-470B-9A80-56E33741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385E8C-11C1-4B39-8E69-CA053810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537712-A3ED-4611-B47F-4F2E0768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C7BE92-1D0C-46BE-A3CE-3BB5240D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E8E6B-B112-4990-A302-EF18FE5F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DE4E4-0E51-4749-940B-F7ED14F6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A51D9-9348-4452-B8DB-679B7AA2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5664F-4318-47E7-BAC2-25008568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F742-32B9-4E5A-B361-62E4F606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75F7D-0F9F-44FC-9F91-E0F78882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24823-0787-4830-9A7E-009D41FA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E06F1-E262-40D3-B015-92747EDD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F53DB-9DB8-43E8-9578-CA445522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231E-76B9-48EE-ADF8-B8F0D5E1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43DEB-AF71-4D14-AFFE-9EFEB6F7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E794C-7A65-44CE-A364-AD2D0B1C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67EA2-E91F-496B-9095-F6255D3D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003CE-91D4-4687-8853-DB52747C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852E4-91F1-491D-8E47-98275EA2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1C7-78EC-4E9A-884A-0DA58609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B7533-C313-4C30-AA6D-52D0B301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B13CD-CF13-4C54-8A7D-F24C821E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C75D2-3A2E-464E-8114-57318430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0AE10-D84D-41D4-8A36-525E9462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7E92F-8D4F-4D7B-A574-C9AC6A92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84D8F-4EF8-476F-9CFA-084C19B7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66F2E-0D9A-4B3A-9186-D06046F3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BDF41-8640-4093-B54E-2E1CA22C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E3117-7E6F-47BD-82F8-2479696C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772E1-1AC6-483D-B8E6-087E90E8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A7EC-BBFE-4E2C-B72B-0D118F64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DB467-667D-4F4D-8D9D-CC286678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2E704-0E8D-42F8-9943-905F8ED5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3A326-FBB8-4444-88B8-88542D56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613EB-700F-43BE-9D8C-7D1E6126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48A20-C4E1-423A-A854-E2676304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409A0-33B7-46EE-AC2F-944FA6F1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59819-D24E-4355-A3A5-49FBF60D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7973E-3BC2-4285-AAA9-CF7BCBB1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BC727-3697-475D-BAC6-A8A6F73D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498CE-465F-41C6-A328-E9B45A20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955-2C27-40F0-88ED-0867D7D0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4B6AE-CD46-4D65-8325-C0D53DAD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FB04A-A85A-4E91-A7E6-255B124C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E4E94-5072-4313-A525-91CCA76F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63630-CBFD-496A-8E72-2B60BF09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12EE2-38A9-49C9-B156-6B01C1EE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8FA88-58A3-4B75-B83C-7CB689A0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F1704-34AD-40DE-ADF0-373C5688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C4986-A3D4-4A9B-98EE-1F4CA0C0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6B776-8A96-419B-81BB-35106845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752C7-A48D-4AE6-AFE1-8EC1789C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EBC-6C28-4C1A-A27F-0EFF59D1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AE175-71E2-4C5F-9FE6-31DD02FF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F410F-F1DB-4E75-9877-4859F752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7B0A5-D9A4-49EA-9A1E-53194178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AD53E-F4B7-4B19-906D-BB996D3F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CFD2B-106F-49D8-9241-D9F3B318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22D71-B573-4CEC-ABAC-36E29BE9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8D9F4-4E5D-498C-82CE-9C8BEBD0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8CEBC-8B3F-4E0B-81E3-9EF037E6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5541C-1111-4C51-AB25-478437CD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5C24F-8B66-42D7-BCC4-E44AFBE8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19D-4036-40FE-9412-C92AC158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28CB9-99CA-4134-977B-F327BF5D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B1D76-6582-4856-80F3-F0AE5639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9AB45-B0D2-44A6-98B7-80C68295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C1D32-2B4C-49EE-A62F-BCB6964A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CB68E-ECD8-4916-839E-4F65A1E8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C4C16-2F7C-483D-83EA-CC4E9B33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A3AC7-D86B-41F8-AA1A-34888A77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7C7F2-5FA7-4DE1-8093-E301319A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E451A-6CD8-4F68-A41E-680C92BF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BACDE-D981-40C9-B0C4-D29DBF3C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364-52C1-4453-A50E-F1F67448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8FFC8-5C8A-4BC0-829C-1713AEC5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A7E0B-E7F1-4EEA-98CD-1E9D5E2D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85CA9-2228-49E3-A2AD-EFB3E77B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E306B-618D-40F0-A1C3-00D0BC0A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7F0CC-B5AF-40AA-AB84-818F5480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4D342-88BE-4F96-95A9-05217A7F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0379F-B199-40BB-8480-4B58F4A6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7F301-ED4F-4C03-AC8E-34FDE8C0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2E397-D5D4-4093-A97B-F1387C00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DB726-33ED-4100-BAA6-E2F01F10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64D9-D775-4EAB-8227-4874CBA0A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7CDC-BA21-4F5A-B97E-8C2292163A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C119-A920-4AB6-B7DB-492DE43AD7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DBF7-E8E5-4D9C-A463-0C9367C1B2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6357-5A2D-4664-B339-A95756A14A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5AF5-B2AA-4A0D-9739-42E8DB0367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B686-1DC6-47F0-94F8-FA0338BA2F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2755-2691-4247-A902-62F4B8D680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3D94-DE97-459B-BB69-00D1A480BA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678E-6309-43A2-BF48-97401CAEEA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979B-AB37-4BC6-87FA-2875361A5F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9DAF-7768-425D-B616-7D4B5D7FC8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F51F-1643-403E-BF45-45C56E7BC0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619A-B007-4A80-98B8-D8686B3EA1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B1F4-0DB5-47CF-B3ED-C4F8B5F818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0276-910C-4DD0-A185-14D0BB765E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9BAA-7FF2-427A-8849-B48764BFDD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C9A7-EC5F-4BC5-881A-B8D2175D5C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D86E-25C1-475E-9157-EF9418CB4D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DB3C-E194-44D6-B024-70B457D906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0250-2C12-496D-88D7-F8086BF75E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B672-E84E-46B4-A1E7-AEB5F9B32F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1FF9-9236-487D-9186-0C23ECAB6F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EE13-7A1A-4585-BA2E-E771F09381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E09A-89C8-4656-8D9C-F6D06D1741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3261-5E16-44CA-A77C-2BEBFB3784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E816-69F7-4A8A-80FE-F4BDC4DD60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6B5E-5F94-4D5F-8BD3-53C947FD3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55D8-712C-43F7-AFA3-330EB1C68A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E655-B22A-4A4B-B392-F15D343F3D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8322-3F6B-4719-956B-F048EF2D91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AEC0-36F8-43A7-9271-D37B174976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DDA5-248D-47A9-BE3A-4B45B806C3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D46A-1D61-4434-8CB1-0F1CABB3C2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8D08-817A-4D28-B1FC-A8B55F3402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4204-E926-448A-8FAD-899AFECE4E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BAB9-D8EE-40EC-B747-AA908B7A23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2C7E-81AE-493D-A1DA-C1EB3A88A1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8CCB-F565-481D-A9EC-FBBBD822E1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268B-B456-4D6C-89C1-4FDC94522B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844560" y="2987640"/>
            <a:ext cx="718344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2050920" y="826920"/>
            <a:ext cx="4681800" cy="6007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2500200" y="1214280"/>
            <a:ext cx="45291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561960" y="1228680"/>
            <a:ext cx="8020080" cy="44006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2"/>
          <a:stretch/>
        </p:blipFill>
        <p:spPr>
          <a:xfrm>
            <a:off x="1763640" y="263052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3"/>
          <a:stretch/>
        </p:blipFill>
        <p:spPr>
          <a:xfrm>
            <a:off x="1763640" y="32068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4"/>
          <a:stretch/>
        </p:blipFill>
        <p:spPr>
          <a:xfrm>
            <a:off x="1763640" y="44308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5"/>
          <a:stretch/>
        </p:blipFill>
        <p:spPr>
          <a:xfrm>
            <a:off x="1763640" y="508464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048880" cy="5486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3"/>
          <a:stretch/>
        </p:blipFill>
        <p:spPr>
          <a:xfrm>
            <a:off x="1763640" y="421488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900000" y="1503360"/>
            <a:ext cx="7277040" cy="1666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2"/>
          <a:stretch/>
        </p:blipFill>
        <p:spPr>
          <a:xfrm>
            <a:off x="812880" y="3500280"/>
            <a:ext cx="4838760" cy="23814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3"/>
          <a:stretch/>
        </p:blipFill>
        <p:spPr>
          <a:xfrm>
            <a:off x="1332000" y="15573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4"/>
          <a:stretch/>
        </p:blipFill>
        <p:spPr>
          <a:xfrm>
            <a:off x="1258920" y="3500280"/>
            <a:ext cx="43164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Picture 3" descr=""/>
          <p:cNvPicPr/>
          <p:nvPr/>
        </p:nvPicPr>
        <p:blipFill>
          <a:blip r:embed="rId1"/>
          <a:stretch/>
        </p:blipFill>
        <p:spPr>
          <a:xfrm>
            <a:off x="1038240" y="2243160"/>
            <a:ext cx="7067520" cy="23716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Picture 2" descr=""/>
          <p:cNvPicPr/>
          <p:nvPr/>
        </p:nvPicPr>
        <p:blipFill>
          <a:blip r:embed="rId1"/>
          <a:stretch/>
        </p:blipFill>
        <p:spPr>
          <a:xfrm>
            <a:off x="500040" y="961920"/>
            <a:ext cx="8143920" cy="55627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2"/>
          <a:stretch/>
        </p:blipFill>
        <p:spPr>
          <a:xfrm>
            <a:off x="1692360" y="2317680"/>
            <a:ext cx="691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3"/>
          <a:stretch/>
        </p:blipFill>
        <p:spPr>
          <a:xfrm>
            <a:off x="1692360" y="3546360"/>
            <a:ext cx="691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4"/>
          <a:stretch/>
        </p:blipFill>
        <p:spPr>
          <a:xfrm>
            <a:off x="1692360" y="5367240"/>
            <a:ext cx="691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5"/>
          <a:stretch/>
        </p:blipFill>
        <p:spPr>
          <a:xfrm>
            <a:off x="1692360" y="5985000"/>
            <a:ext cx="691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Picture 2" descr=""/>
          <p:cNvPicPr/>
          <p:nvPr/>
        </p:nvPicPr>
        <p:blipFill>
          <a:blip r:embed="rId1"/>
          <a:stretch/>
        </p:blipFill>
        <p:spPr>
          <a:xfrm>
            <a:off x="519120" y="942840"/>
            <a:ext cx="8105760" cy="55818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2"/>
          <a:stretch/>
        </p:blipFill>
        <p:spPr>
          <a:xfrm>
            <a:off x="5003640" y="602136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Picture 2" descr=""/>
          <p:cNvPicPr/>
          <p:nvPr/>
        </p:nvPicPr>
        <p:blipFill>
          <a:blip r:embed="rId1"/>
          <a:stretch/>
        </p:blipFill>
        <p:spPr>
          <a:xfrm>
            <a:off x="861840" y="1038240"/>
            <a:ext cx="7420320" cy="48387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3"/>
          <a:stretch/>
        </p:blipFill>
        <p:spPr>
          <a:xfrm>
            <a:off x="4140360" y="3500280"/>
            <a:ext cx="431640" cy="4384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4"/>
          <a:stretch/>
        </p:blipFill>
        <p:spPr>
          <a:xfrm>
            <a:off x="4140360" y="537372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2:23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